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7D1-179D-4EF1-A32E-C44F9126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C60-12C7-4DD7-AB67-4F1F5CD9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E5E-6B31-44A2-BD3C-DECC59C8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960-3AA5-4096-946D-6210EF5C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1D7-7B1C-4D26-BD0A-BF47A8ED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9F4-3D95-4903-9FFD-8A72334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0FB-5D9C-4F78-9CF9-6A9EBCF2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585-9C29-4883-8311-58B9979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C22-E58F-4384-AE12-28DA13C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D8E-33DD-4D3A-BD50-8F65F63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F72-B88A-4446-A63F-D40C673D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38-5312-400B-9374-FFD96A5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BD22-36DD-4986-B0D2-61E57430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eb.mit.edu/invent/iow/apple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633600">
            <a:off x="2666520" y="838080"/>
            <a:ext cx="59436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ple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ter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38080"/>
            <a:ext cx="2590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Mad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October 4</a:t>
            </a:r>
            <a:r>
              <a:rPr b="0" lang="en-US" sz="2000" spc="-1" strike="noStrike" baseline="30000">
                <a:solidFill>
                  <a:srgbClr val="6699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6699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Computer #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6781680" y="7621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266688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590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5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172200"/>
            <a:ext cx="388620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Music: Free Play Music,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Hip Hop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October 4</a:t>
            </a:r>
            <a:r>
              <a:rPr b="1" lang="en-US" sz="1400" spc="-1" strike="noStrike" baseline="30000">
                <a:solidFill>
                  <a:srgbClr val="339933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 2010</a:t>
            </a:r>
            <a:r>
              <a:rPr b="0" lang="en-US" sz="14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ntion: Apple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pple Computer was the first huge marketed personal 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ve Jobs didn’t want any apps. And his computer it ended up having over 1,5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 2 had colors and was in a plastic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ntor: Steve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was born in San Francisco in the year 195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built the first machines to make his computers in his family garage in the year 197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made a company and built computers fo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tried to invent “NeXT” but it fai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s is the CEO of Pixar Stud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Jobs is also the CEO of Ap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s invented the iPod and the Macbook too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6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Jobs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Jobs and Wozniak"/>
          <p:cNvPicPr/>
          <p:nvPr/>
        </p:nvPicPr>
        <p:blipFill>
          <a:blip r:embed="rId2"/>
          <a:srcRect l="23276" t="0" r="45207" b="43922"/>
          <a:stretch/>
        </p:blipFill>
        <p:spPr>
          <a:xfrm>
            <a:off x="0" y="44197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480"/>
            <a:ext cx="5638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LE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Personal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657600" y="2438280"/>
            <a:ext cx="1884240" cy="1989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3124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95460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4191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Mrs. Martin’s 6</a:t>
            </a:r>
            <a:r>
              <a:rPr b="0" lang="en-US" sz="3200" spc="-1" strike="noStrike" baseline="30000">
                <a:solidFill>
                  <a:srgbClr val="18494e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 Grade Comput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In Room E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Created By Ma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19520" y="838080"/>
            <a:ext cx="3200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9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0:20Z</dcterms:created>
  <dc:creator>install</dc:creator>
  <dc:description/>
  <dc:language>en-US</dc:language>
  <cp:lastModifiedBy>install</cp:lastModifiedBy>
  <dcterms:modified xsi:type="dcterms:W3CDTF">2010-10-13T17:52:41Z</dcterms:modified>
  <cp:revision>17</cp:revision>
  <dc:subject/>
  <dc:title>Slide 1</dc:title>
</cp:coreProperties>
</file>